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52790-F5E8-42AD-B498-C06FBBE957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DCC8A-2076-4699-AA0B-19FE3CA98A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2923C-C86E-45DB-8777-428B38399F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AD623-8557-4C19-8315-1C21BF0B10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E73C-6599-4A63-8041-8EC4AE5E1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20800" y="1090440"/>
            <a:ext cx="522432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96920" y="2825280"/>
            <a:ext cx="464832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96920" y="5335560"/>
            <a:ext cx="464832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5F02-467D-4919-9379-80E068E9A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0800" y="1090440"/>
            <a:ext cx="522432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2825280"/>
            <a:ext cx="226836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479040" y="2825280"/>
            <a:ext cx="226836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96920" y="5335560"/>
            <a:ext cx="226836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479040" y="5335560"/>
            <a:ext cx="226836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E6A2-0841-426A-BD7C-BEAB6ABF3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0800" y="1090440"/>
            <a:ext cx="522432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96920" y="2825280"/>
            <a:ext cx="149652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2668680" y="2825280"/>
            <a:ext cx="149652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240440" y="2825280"/>
            <a:ext cx="149652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96920" y="5335560"/>
            <a:ext cx="149652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2668680" y="5335560"/>
            <a:ext cx="149652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4240440" y="5335560"/>
            <a:ext cx="149652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06BB-1171-415F-B762-FFAECBE5D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0661D-9832-4F7A-A256-04C937D83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0800" y="1090440"/>
            <a:ext cx="522432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96920" y="2825280"/>
            <a:ext cx="4648320" cy="48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B1418-C7A3-4E50-968D-57FF51DAD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0800" y="1090440"/>
            <a:ext cx="522432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96920" y="2825280"/>
            <a:ext cx="4648320" cy="48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2C809-6FF9-4742-AB6D-66E58D809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0800" y="1090440"/>
            <a:ext cx="522432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96920" y="2825280"/>
            <a:ext cx="2268360" cy="48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479040" y="2825280"/>
            <a:ext cx="2268360" cy="48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54DE2-047A-45D4-92AC-8FC257575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0800" y="1090440"/>
            <a:ext cx="522432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B81CE-9877-4FC7-934C-19D5D9238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820800" y="1090440"/>
            <a:ext cx="5224320" cy="74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9317E-5ABE-4C32-88F7-DED6F3BA5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0800" y="1090440"/>
            <a:ext cx="522432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2825280"/>
            <a:ext cx="226836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479040" y="2825280"/>
            <a:ext cx="2268360" cy="48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5335560"/>
            <a:ext cx="226836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029D2-1B18-4FA4-BBC8-72E4E04C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20800" y="1090440"/>
            <a:ext cx="522432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96920" y="2825280"/>
            <a:ext cx="4648320" cy="48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D3E9-B86F-47A7-9BBF-951170CE5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20800" y="1090440"/>
            <a:ext cx="522432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2825280"/>
            <a:ext cx="2268360" cy="48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79040" y="2825280"/>
            <a:ext cx="226836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479040" y="5335560"/>
            <a:ext cx="226836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8164B-2BDC-4FB1-A879-B524AC8C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0800" y="1090440"/>
            <a:ext cx="522432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96920" y="2825280"/>
            <a:ext cx="226836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79040" y="2825280"/>
            <a:ext cx="226836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96920" y="5335560"/>
            <a:ext cx="464832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6639F-6F5B-42D9-8B16-3826A424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0800" y="1090440"/>
            <a:ext cx="522432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2825280"/>
            <a:ext cx="464832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96920" y="5335560"/>
            <a:ext cx="464832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1F15D-5ADB-4D3E-A064-0ABBA519C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0800" y="1090440"/>
            <a:ext cx="522432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96920" y="2825280"/>
            <a:ext cx="226836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479040" y="2825280"/>
            <a:ext cx="226836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96920" y="5335560"/>
            <a:ext cx="226836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3479040" y="5335560"/>
            <a:ext cx="226836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88173-8718-4CF0-BD51-24684D9B7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0800" y="1090440"/>
            <a:ext cx="522432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96920" y="2825280"/>
            <a:ext cx="149652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668680" y="2825280"/>
            <a:ext cx="149652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240440" y="2825280"/>
            <a:ext cx="149652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96920" y="5335560"/>
            <a:ext cx="149652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668680" y="5335560"/>
            <a:ext cx="149652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4240440" y="5335560"/>
            <a:ext cx="149652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BB747-7AA4-4258-B17E-9F4963DE5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5315D-4B00-4160-BE08-5982E714A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0800" y="1090440"/>
            <a:ext cx="522432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96920" y="2825280"/>
            <a:ext cx="4648320" cy="48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528F3-5003-438E-AAE5-FE702DA46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20800" y="1090440"/>
            <a:ext cx="522432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96920" y="2825280"/>
            <a:ext cx="4648320" cy="48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0EC7B-FB0C-460B-8C63-E03C906D2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20800" y="1090440"/>
            <a:ext cx="522432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96920" y="2825280"/>
            <a:ext cx="2268360" cy="48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479040" y="2825280"/>
            <a:ext cx="2268360" cy="48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135AA-A1E7-4176-A8B7-B14F1ED26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0800" y="1090440"/>
            <a:ext cx="522432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1344E-D359-4B20-A928-CA534D7A4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0800" y="1090440"/>
            <a:ext cx="522432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96920" y="2825280"/>
            <a:ext cx="4648320" cy="48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BE11-C5D0-476F-BCEC-55C849752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820800" y="1090440"/>
            <a:ext cx="5224320" cy="74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5C155-54D8-4E28-B22B-0F940F9BC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0800" y="1090440"/>
            <a:ext cx="522432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96920" y="2825280"/>
            <a:ext cx="226836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479040" y="2825280"/>
            <a:ext cx="2268360" cy="48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96920" y="5335560"/>
            <a:ext cx="226836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89541-607A-4F45-9E91-EBC41CED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0800" y="1090440"/>
            <a:ext cx="522432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96920" y="2825280"/>
            <a:ext cx="2268360" cy="48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479040" y="2825280"/>
            <a:ext cx="226836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479040" y="5335560"/>
            <a:ext cx="226836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6C566-FB35-4745-AA3E-0E62745C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0800" y="1090440"/>
            <a:ext cx="522432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96920" y="2825280"/>
            <a:ext cx="226836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479040" y="2825280"/>
            <a:ext cx="226836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96920" y="5335560"/>
            <a:ext cx="464832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356CB-5899-4643-9E21-D982066B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0800" y="1090440"/>
            <a:ext cx="522432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96920" y="2825280"/>
            <a:ext cx="464832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96920" y="5335560"/>
            <a:ext cx="464832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5DB2D-ACC2-438F-835B-06D9DF90C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0800" y="1090440"/>
            <a:ext cx="522432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96920" y="2825280"/>
            <a:ext cx="226836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479040" y="2825280"/>
            <a:ext cx="226836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96920" y="5335560"/>
            <a:ext cx="226836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3479040" y="5335560"/>
            <a:ext cx="226836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DC618-0090-406B-8BB6-C93DF6343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0800" y="1090440"/>
            <a:ext cx="522432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96920" y="2825280"/>
            <a:ext cx="149652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2668680" y="2825280"/>
            <a:ext cx="149652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240440" y="2825280"/>
            <a:ext cx="149652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96920" y="5335560"/>
            <a:ext cx="149652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2668680" y="5335560"/>
            <a:ext cx="149652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4240440" y="5335560"/>
            <a:ext cx="149652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2775F-DFC5-4F00-AFF1-151CA465C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69176-B7AD-4F59-B047-0ECDCA489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0800" y="1090440"/>
            <a:ext cx="522432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096920" y="2825280"/>
            <a:ext cx="4648320" cy="48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DEE7C-6CD0-4FE1-B73C-0C81971A8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20800" y="1090440"/>
            <a:ext cx="522432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96920" y="2825280"/>
            <a:ext cx="4648320" cy="48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93755-9A2E-4652-A99A-E94BE38A3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20800" y="1090440"/>
            <a:ext cx="522432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96920" y="2825280"/>
            <a:ext cx="2268360" cy="48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479040" y="2825280"/>
            <a:ext cx="2268360" cy="48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C1C6-DDC7-4D6E-8BEA-C62FB1BF2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0800" y="1090440"/>
            <a:ext cx="522432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96920" y="2825280"/>
            <a:ext cx="2268360" cy="48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479040" y="2825280"/>
            <a:ext cx="2268360" cy="48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A5DC6-3350-46DC-8B17-08FCC4E5F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0800" y="1090440"/>
            <a:ext cx="522432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4B57A-5047-4239-A7D2-12315481D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820800" y="1090440"/>
            <a:ext cx="5224320" cy="74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61BBF-99F7-46DB-A2FC-3FAE3CC0C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20800" y="1090440"/>
            <a:ext cx="522432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96920" y="2825280"/>
            <a:ext cx="226836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479040" y="2825280"/>
            <a:ext cx="2268360" cy="48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096920" y="5335560"/>
            <a:ext cx="226836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6CF79-9351-4AFC-982C-F34D263BD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0800" y="1090440"/>
            <a:ext cx="522432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96920" y="2825280"/>
            <a:ext cx="2268360" cy="48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79040" y="2825280"/>
            <a:ext cx="226836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479040" y="5335560"/>
            <a:ext cx="226836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DD064-7B0C-42DF-8F80-BB51AF0CF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20800" y="1090440"/>
            <a:ext cx="522432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96920" y="2825280"/>
            <a:ext cx="226836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479040" y="2825280"/>
            <a:ext cx="226836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096920" y="5335560"/>
            <a:ext cx="464832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8A0F4-6AB7-4FC8-8922-2EA2EAF4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20800" y="1090440"/>
            <a:ext cx="522432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96920" y="2825280"/>
            <a:ext cx="464832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096920" y="5335560"/>
            <a:ext cx="464832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A3C0B-8121-4F15-8B9B-88CDD0CBA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20800" y="1090440"/>
            <a:ext cx="522432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96920" y="2825280"/>
            <a:ext cx="226836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479040" y="2825280"/>
            <a:ext cx="226836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096920" y="5335560"/>
            <a:ext cx="226836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3479040" y="5335560"/>
            <a:ext cx="226836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6F27B-4EF5-4D10-B56D-6DEA09DC1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0800" y="1090440"/>
            <a:ext cx="522432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96920" y="2825280"/>
            <a:ext cx="149652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2668680" y="2825280"/>
            <a:ext cx="149652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240440" y="2825280"/>
            <a:ext cx="149652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096920" y="5335560"/>
            <a:ext cx="149652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2668680" y="5335560"/>
            <a:ext cx="149652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4240440" y="5335560"/>
            <a:ext cx="149652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4824F-819C-4CE4-988E-E5DDF8A12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0800" y="1090440"/>
            <a:ext cx="522432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BD6D-5525-4E11-BAC8-035F1D045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820800" y="1090440"/>
            <a:ext cx="5224320" cy="74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0B1F-5BBE-4C22-AD1D-4F37AE668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0800" y="1090440"/>
            <a:ext cx="522432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96920" y="2825280"/>
            <a:ext cx="226836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479040" y="2825280"/>
            <a:ext cx="2268360" cy="48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96920" y="5335560"/>
            <a:ext cx="226836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056F-C71D-490F-A15F-5096FFE6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0800" y="1090440"/>
            <a:ext cx="522432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2825280"/>
            <a:ext cx="2268360" cy="48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79040" y="2825280"/>
            <a:ext cx="226836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79040" y="5335560"/>
            <a:ext cx="226836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5DAE-81A5-432E-88D3-BA91C9DF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0800" y="1090440"/>
            <a:ext cx="522432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96920" y="2825280"/>
            <a:ext cx="226836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79040" y="2825280"/>
            <a:ext cx="226836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96920" y="5335560"/>
            <a:ext cx="464832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79AE-25F0-498D-9403-D7B48789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0"/>
            <a:ext cx="6858000" cy="9144000"/>
            <a:chOff x="0" y="0"/>
            <a:chExt cx="6858000" cy="9144000"/>
          </a:xfrm>
        </p:grpSpPr>
        <p:grpSp>
          <p:nvGrpSpPr>
            <p:cNvPr id="1" name="Rectangle 7"/>
            <p:cNvGrpSpPr/>
            <p:nvPr/>
          </p:nvGrpSpPr>
          <p:grpSpPr>
            <a:xfrm>
              <a:off x="0" y="0"/>
              <a:ext cx="5376600" cy="9144000"/>
              <a:chOff x="0" y="0"/>
              <a:chExt cx="5376600" cy="9144000"/>
            </a:xfrm>
          </p:grpSpPr>
          <p:pic>
            <p:nvPicPr>
              <p:cNvPr id="2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5376600" cy="9144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" name=""/>
              <p:cNvSpPr/>
              <p:nvPr/>
            </p:nvSpPr>
            <p:spPr>
              <a:xfrm>
                <a:off x="0" y="0"/>
                <a:ext cx="5372280" cy="914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4" name="Rectangle 8"/>
            <p:cNvGrpSpPr/>
            <p:nvPr/>
          </p:nvGrpSpPr>
          <p:grpSpPr>
            <a:xfrm>
              <a:off x="853200" y="0"/>
              <a:ext cx="6004800" cy="9144000"/>
              <a:chOff x="853200" y="0"/>
              <a:chExt cx="6004800" cy="9144000"/>
            </a:xfrm>
          </p:grpSpPr>
          <p:pic>
            <p:nvPicPr>
              <p:cNvPr id="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3200" y="0"/>
                <a:ext cx="6004800" cy="9144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" name=""/>
              <p:cNvSpPr/>
              <p:nvPr/>
            </p:nvSpPr>
            <p:spPr>
              <a:xfrm>
                <a:off x="856800" y="0"/>
                <a:ext cx="6001200" cy="914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7" name="Freeform 9"/>
          <p:cNvGrpSpPr/>
          <p:nvPr/>
        </p:nvGrpSpPr>
        <p:grpSpPr>
          <a:xfrm>
            <a:off x="469800" y="8089920"/>
            <a:ext cx="5943600" cy="719280"/>
            <a:chOff x="469800" y="8089920"/>
            <a:chExt cx="5943600" cy="719280"/>
          </a:xfrm>
        </p:grpSpPr>
        <p:pic>
          <p:nvPicPr>
            <p:cNvPr id="8" name="Freeform 9" descr=""/>
            <p:cNvPicPr/>
            <p:nvPr/>
          </p:nvPicPr>
          <p:blipFill>
            <a:blip r:embed="rId5"/>
            <a:stretch/>
          </p:blipFill>
          <p:spPr>
            <a:xfrm>
              <a:off x="469800" y="8089920"/>
              <a:ext cx="594360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0800000">
              <a:off x="471240" y="8092800"/>
              <a:ext cx="594036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" name="Rectangle 10"/>
          <p:cNvSpPr/>
          <p:nvPr/>
        </p:nvSpPr>
        <p:spPr>
          <a:xfrm>
            <a:off x="549360" y="766800"/>
            <a:ext cx="5772240" cy="7620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" name="Rectangle 11"/>
          <p:cNvSpPr/>
          <p:nvPr/>
        </p:nvSpPr>
        <p:spPr>
          <a:xfrm>
            <a:off x="549360" y="768240"/>
            <a:ext cx="5772240" cy="76201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2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407520" y="363600"/>
            <a:ext cx="425520" cy="75708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5920200" y="562680"/>
            <a:ext cx="757440" cy="42552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0800" y="1090440"/>
            <a:ext cx="522432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096920" y="2825280"/>
            <a:ext cx="4648320" cy="48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4839840" y="7745400"/>
            <a:ext cx="9111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685800" y="7745400"/>
            <a:ext cx="41544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5752800" y="7745400"/>
            <a:ext cx="414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D97E7-F61C-44C9-98D6-B80DDD29C500}" type="slidenum">
              <a:rPr b="0" lang="en-US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5"/>
          <p:cNvGrpSpPr/>
          <p:nvPr/>
        </p:nvGrpSpPr>
        <p:grpSpPr>
          <a:xfrm>
            <a:off x="0" y="0"/>
            <a:ext cx="6858000" cy="9144000"/>
            <a:chOff x="0" y="0"/>
            <a:chExt cx="6858000" cy="9144000"/>
          </a:xfrm>
        </p:grpSpPr>
        <p:grpSp>
          <p:nvGrpSpPr>
            <p:cNvPr id="56" name="Rectangle 15"/>
            <p:cNvGrpSpPr/>
            <p:nvPr/>
          </p:nvGrpSpPr>
          <p:grpSpPr>
            <a:xfrm>
              <a:off x="0" y="0"/>
              <a:ext cx="5376600" cy="9144000"/>
              <a:chOff x="0" y="0"/>
              <a:chExt cx="5376600" cy="9144000"/>
            </a:xfrm>
          </p:grpSpPr>
          <p:pic>
            <p:nvPicPr>
              <p:cNvPr id="57" name="Rectangl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5376600" cy="9144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0" y="0"/>
                <a:ext cx="5372280" cy="914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59" name="Rectangle 16"/>
            <p:cNvGrpSpPr/>
            <p:nvPr/>
          </p:nvGrpSpPr>
          <p:grpSpPr>
            <a:xfrm>
              <a:off x="853200" y="0"/>
              <a:ext cx="6004800" cy="9144000"/>
              <a:chOff x="853200" y="0"/>
              <a:chExt cx="6004800" cy="9144000"/>
            </a:xfrm>
          </p:grpSpPr>
          <p:pic>
            <p:nvPicPr>
              <p:cNvPr id="60" name="Rectangle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853200" y="0"/>
                <a:ext cx="6004800" cy="9144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856800" y="0"/>
                <a:ext cx="6001200" cy="914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62" name="Freeform 17"/>
          <p:cNvGrpSpPr/>
          <p:nvPr/>
        </p:nvGrpSpPr>
        <p:grpSpPr>
          <a:xfrm>
            <a:off x="665280" y="7486560"/>
            <a:ext cx="5546520" cy="723960"/>
            <a:chOff x="665280" y="7486560"/>
            <a:chExt cx="5546520" cy="723960"/>
          </a:xfrm>
        </p:grpSpPr>
        <p:pic>
          <p:nvPicPr>
            <p:cNvPr id="63" name="Freeform 17" descr=""/>
            <p:cNvPicPr/>
            <p:nvPr/>
          </p:nvPicPr>
          <p:blipFill>
            <a:blip r:embed="rId5"/>
            <a:stretch/>
          </p:blipFill>
          <p:spPr>
            <a:xfrm>
              <a:off x="665280" y="7486560"/>
              <a:ext cx="5546520" cy="72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 rot="10800000">
              <a:off x="668160" y="7489440"/>
              <a:ext cx="553752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65" name="Rectangle 18"/>
          <p:cNvSpPr/>
          <p:nvPr/>
        </p:nvSpPr>
        <p:spPr>
          <a:xfrm>
            <a:off x="743040" y="1355760"/>
            <a:ext cx="5384880" cy="6442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Rectangle 19"/>
          <p:cNvSpPr/>
          <p:nvPr/>
        </p:nvSpPr>
        <p:spPr>
          <a:xfrm>
            <a:off x="743040" y="1346040"/>
            <a:ext cx="5384880" cy="64422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67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77440" y="936720"/>
            <a:ext cx="425520" cy="757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5725800" y="1164960"/>
            <a:ext cx="755640" cy="4255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0800" y="1090440"/>
            <a:ext cx="522432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1096920" y="2825280"/>
            <a:ext cx="4648320" cy="48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5078520" y="7143480"/>
            <a:ext cx="9093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880560" y="7143480"/>
            <a:ext cx="37753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4660560" y="7143480"/>
            <a:ext cx="4143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DEDCA-1DDB-4CE6-A018-E3F956E7D8AB}" type="slidenum">
              <a:rPr b="0" lang="en-US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15"/>
          <p:cNvGrpSpPr/>
          <p:nvPr/>
        </p:nvGrpSpPr>
        <p:grpSpPr>
          <a:xfrm>
            <a:off x="0" y="0"/>
            <a:ext cx="6858000" cy="9144000"/>
            <a:chOff x="0" y="0"/>
            <a:chExt cx="6858000" cy="9144000"/>
          </a:xfrm>
        </p:grpSpPr>
        <p:grpSp>
          <p:nvGrpSpPr>
            <p:cNvPr id="111" name="Rectangle 15"/>
            <p:cNvGrpSpPr/>
            <p:nvPr/>
          </p:nvGrpSpPr>
          <p:grpSpPr>
            <a:xfrm>
              <a:off x="0" y="0"/>
              <a:ext cx="5376600" cy="9144000"/>
              <a:chOff x="0" y="0"/>
              <a:chExt cx="5376600" cy="9144000"/>
            </a:xfrm>
          </p:grpSpPr>
          <p:pic>
            <p:nvPicPr>
              <p:cNvPr id="112" name="Rectangl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5376600" cy="9144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0" y="0"/>
                <a:ext cx="5372280" cy="914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114" name="Rectangle 16"/>
            <p:cNvGrpSpPr/>
            <p:nvPr/>
          </p:nvGrpSpPr>
          <p:grpSpPr>
            <a:xfrm>
              <a:off x="853200" y="0"/>
              <a:ext cx="6004800" cy="9144000"/>
              <a:chOff x="853200" y="0"/>
              <a:chExt cx="6004800" cy="9144000"/>
            </a:xfrm>
          </p:grpSpPr>
          <p:pic>
            <p:nvPicPr>
              <p:cNvPr id="115" name="Rectangle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853200" y="0"/>
                <a:ext cx="6004800" cy="9144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856800" y="0"/>
                <a:ext cx="6001200" cy="914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117" name="Freeform 17"/>
          <p:cNvGrpSpPr/>
          <p:nvPr/>
        </p:nvGrpSpPr>
        <p:grpSpPr>
          <a:xfrm>
            <a:off x="469800" y="8077320"/>
            <a:ext cx="5797800" cy="718920"/>
            <a:chOff x="469800" y="8077320"/>
            <a:chExt cx="5797800" cy="718920"/>
          </a:xfrm>
        </p:grpSpPr>
        <p:pic>
          <p:nvPicPr>
            <p:cNvPr id="118" name="Freeform 17" descr=""/>
            <p:cNvPicPr/>
            <p:nvPr/>
          </p:nvPicPr>
          <p:blipFill>
            <a:blip r:embed="rId5"/>
            <a:stretch/>
          </p:blipFill>
          <p:spPr>
            <a:xfrm>
              <a:off x="469800" y="8077320"/>
              <a:ext cx="579780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 rot="10800000">
              <a:off x="474840" y="8077320"/>
              <a:ext cx="5790960" cy="71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20" name="Rectangle 18"/>
          <p:cNvSpPr/>
          <p:nvPr/>
        </p:nvSpPr>
        <p:spPr>
          <a:xfrm rot="60000">
            <a:off x="3351240" y="806400"/>
            <a:ext cx="2841480" cy="7629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Rectangle 19"/>
          <p:cNvSpPr/>
          <p:nvPr/>
        </p:nvSpPr>
        <p:spPr>
          <a:xfrm rot="60000">
            <a:off x="3352680" y="804960"/>
            <a:ext cx="2843280" cy="762948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Rectangle 20"/>
          <p:cNvSpPr/>
          <p:nvPr/>
        </p:nvSpPr>
        <p:spPr>
          <a:xfrm rot="21540000">
            <a:off x="561960" y="769680"/>
            <a:ext cx="2841480" cy="7629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Rectangle 21"/>
          <p:cNvSpPr/>
          <p:nvPr/>
        </p:nvSpPr>
        <p:spPr>
          <a:xfrm rot="21540000">
            <a:off x="561960" y="767880"/>
            <a:ext cx="2841480" cy="762948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24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1777680" y="392040"/>
            <a:ext cx="425520" cy="757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4544280" y="609840"/>
            <a:ext cx="755640" cy="4251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20800" y="1090440"/>
            <a:ext cx="522432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96920" y="2825280"/>
            <a:ext cx="4648320" cy="48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 rot="60000">
            <a:off x="4755600" y="7846560"/>
            <a:ext cx="9111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 rot="21540000">
            <a:off x="685800" y="7772040"/>
            <a:ext cx="26416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 rot="60000">
            <a:off x="5667120" y="7862400"/>
            <a:ext cx="415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790E2-4A71-49CE-A8E7-AF49406DDE59}" type="slidenum">
              <a:rPr b="0" lang="en-US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15"/>
          <p:cNvGrpSpPr/>
          <p:nvPr/>
        </p:nvGrpSpPr>
        <p:grpSpPr>
          <a:xfrm>
            <a:off x="0" y="0"/>
            <a:ext cx="6858000" cy="9144000"/>
            <a:chOff x="0" y="0"/>
            <a:chExt cx="6858000" cy="9144000"/>
          </a:xfrm>
        </p:grpSpPr>
        <p:grpSp>
          <p:nvGrpSpPr>
            <p:cNvPr id="168" name="Rectangle 15"/>
            <p:cNvGrpSpPr/>
            <p:nvPr/>
          </p:nvGrpSpPr>
          <p:grpSpPr>
            <a:xfrm>
              <a:off x="0" y="0"/>
              <a:ext cx="5376600" cy="9144000"/>
              <a:chOff x="0" y="0"/>
              <a:chExt cx="5376600" cy="9144000"/>
            </a:xfrm>
          </p:grpSpPr>
          <p:pic>
            <p:nvPicPr>
              <p:cNvPr id="169" name="Rectangl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5376600" cy="9144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"/>
              <p:cNvSpPr/>
              <p:nvPr/>
            </p:nvSpPr>
            <p:spPr>
              <a:xfrm>
                <a:off x="0" y="0"/>
                <a:ext cx="5372280" cy="914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171" name="Rectangle 16"/>
            <p:cNvGrpSpPr/>
            <p:nvPr/>
          </p:nvGrpSpPr>
          <p:grpSpPr>
            <a:xfrm>
              <a:off x="853200" y="0"/>
              <a:ext cx="6004800" cy="9144000"/>
              <a:chOff x="853200" y="0"/>
              <a:chExt cx="6004800" cy="9144000"/>
            </a:xfrm>
          </p:grpSpPr>
          <p:pic>
            <p:nvPicPr>
              <p:cNvPr id="172" name="Rectangle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853200" y="0"/>
                <a:ext cx="6004800" cy="9144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"/>
              <p:cNvSpPr/>
              <p:nvPr/>
            </p:nvSpPr>
            <p:spPr>
              <a:xfrm>
                <a:off x="856800" y="0"/>
                <a:ext cx="6001200" cy="914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174" name="Freeform 17"/>
          <p:cNvGrpSpPr/>
          <p:nvPr/>
        </p:nvGrpSpPr>
        <p:grpSpPr>
          <a:xfrm>
            <a:off x="469800" y="8077320"/>
            <a:ext cx="5797800" cy="718920"/>
            <a:chOff x="469800" y="8077320"/>
            <a:chExt cx="5797800" cy="718920"/>
          </a:xfrm>
        </p:grpSpPr>
        <p:pic>
          <p:nvPicPr>
            <p:cNvPr id="175" name="Freeform 17" descr=""/>
            <p:cNvPicPr/>
            <p:nvPr/>
          </p:nvPicPr>
          <p:blipFill>
            <a:blip r:embed="rId5"/>
            <a:stretch/>
          </p:blipFill>
          <p:spPr>
            <a:xfrm>
              <a:off x="469800" y="8077320"/>
              <a:ext cx="579780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 rot="10800000">
              <a:off x="474840" y="8077320"/>
              <a:ext cx="5790960" cy="71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77" name="Rectangle 18"/>
          <p:cNvSpPr/>
          <p:nvPr/>
        </p:nvSpPr>
        <p:spPr>
          <a:xfrm rot="21540000">
            <a:off x="561960" y="769680"/>
            <a:ext cx="2841480" cy="7629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Rectangle 19"/>
          <p:cNvSpPr/>
          <p:nvPr/>
        </p:nvSpPr>
        <p:spPr>
          <a:xfrm rot="21540000">
            <a:off x="558720" y="767880"/>
            <a:ext cx="2841840" cy="762948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9" name="Rectangle 20"/>
          <p:cNvSpPr/>
          <p:nvPr/>
        </p:nvSpPr>
        <p:spPr>
          <a:xfrm rot="60000">
            <a:off x="3351240" y="806400"/>
            <a:ext cx="2841480" cy="7629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Rectangle 21"/>
          <p:cNvSpPr/>
          <p:nvPr/>
        </p:nvSpPr>
        <p:spPr>
          <a:xfrm rot="60000">
            <a:off x="3348000" y="804960"/>
            <a:ext cx="2841840" cy="762948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81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1777680" y="392040"/>
            <a:ext cx="425520" cy="7574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4544280" y="609840"/>
            <a:ext cx="755640" cy="4251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0800" y="1090440"/>
            <a:ext cx="522432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096920" y="2825280"/>
            <a:ext cx="4648320" cy="48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0"/>
          </p:nvPr>
        </p:nvSpPr>
        <p:spPr>
          <a:xfrm rot="60000">
            <a:off x="4758840" y="7851240"/>
            <a:ext cx="911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1"/>
          </p:nvPr>
        </p:nvSpPr>
        <p:spPr>
          <a:xfrm rot="21540000">
            <a:off x="685800" y="7773480"/>
            <a:ext cx="24890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2"/>
          </p:nvPr>
        </p:nvSpPr>
        <p:spPr>
          <a:xfrm rot="60000">
            <a:off x="5671800" y="7865640"/>
            <a:ext cx="414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191C8-53FC-452B-BBAC-261DC9B3A66A}" type="slidenum">
              <a:rPr b="0" lang="en-US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95280" y="2393640"/>
            <a:ext cx="4292640" cy="1436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Mentor Texts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295280" y="4981680"/>
            <a:ext cx="4284720" cy="20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5e9c"/>
                </a:solidFill>
                <a:latin typeface="Franklin Gothic Book"/>
              </a:rPr>
              <a:t>Beverly Abram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5e9c"/>
                </a:solidFill>
                <a:latin typeface="Franklin Gothic Book"/>
              </a:rPr>
              <a:t>Summer 2011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5e9c"/>
                </a:solidFill>
                <a:latin typeface="Franklin Gothic Book"/>
              </a:rPr>
              <a:t>7.20.2011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0800" y="1090440"/>
            <a:ext cx="5224320" cy="16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nstantia"/>
              </a:rPr>
              <a:t>Crow Call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y Lois Lowr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096920" y="2825280"/>
            <a:ext cx="4648320" cy="480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tting is completely aligned with the character’s relationship with her father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Use of double timeline to study with kids (relationship and setting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0800" y="1090440"/>
            <a:ext cx="5224320" cy="16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096920" y="2825280"/>
            <a:ext cx="4648320" cy="480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Franklin Gothic Book"/>
              </a:rPr>
              <a:t>Wondrous Words </a:t>
            </a: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by Katie Wood Ray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Franklin Gothic Book"/>
              </a:rPr>
              <a:t>Independent Writing </a:t>
            </a: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by Colleen Cruz (Heinemann website download on mentor texts)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Franklin Gothic Book"/>
              </a:rPr>
              <a:t>Mentor Texts: Teaching Writing Through Children’s Literature, K-6</a:t>
            </a: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 by Dorfman and Campelli.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Franklin Gothic Book"/>
              </a:rPr>
              <a:t>Nonfiction Texts: Teaching Writing Through Children’s Literature, K-6 </a:t>
            </a: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by Dorfman and Campelli 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Franklin Gothic Book"/>
              </a:rPr>
              <a:t>Craft Lessons:  Teaching Writing K-8 Edition 2 </a:t>
            </a: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by Ralph Fletcher and JoAnn Portalupi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Franklin Gothic Book"/>
              </a:rPr>
              <a:t>Nonfiction Craft Lessons: Teaching Writing K-8 </a:t>
            </a: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by Ralph Fletcher and JoAnn Portalupi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20800" y="1090440"/>
            <a:ext cx="5224320" cy="16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Why Mentor Text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096920" y="2825280"/>
            <a:ext cx="4648320" cy="480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It gives you a sense of what you are looking for.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Lets you know what is possible.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It gives you a different way to look at reading and writing.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Trains the student’s eye for what to look for.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That is a great piece – now how can I do that?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Inspirations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It is a way to build  communication – can use titles to identify writing styles.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They raise the bar – set higher expectations.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0800" y="1090440"/>
            <a:ext cx="5224320" cy="16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How To Choos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096920" y="2825280"/>
            <a:ext cx="4648320" cy="480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Must be a text you love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Students need to enjoy reading and hearing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Should be about the length the students are going to write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Should have the qualities you want to teach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Should be easy to read aloud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Level and Interest – Is it possible for my writers to read, comprehend and talk about this literature with others?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Quality of Text – Can I get an image of my writers becoming like this writer in some way, shape, or form?  Will this writing help improve the quality of writing my writers currently uphold?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0800" y="1090440"/>
            <a:ext cx="5224320" cy="16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Types of Mentor Text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096920" y="2825280"/>
            <a:ext cx="4648320" cy="480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Published Text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tudent Created Text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eacher Created Text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o-Created Text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0800" y="1090440"/>
            <a:ext cx="5224320" cy="16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Steps for Using Mentor Text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096920" y="2825280"/>
            <a:ext cx="4648320" cy="480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49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First experience as readers.  Read as a story – do not preteach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61720" indent="-261720">
              <a:lnSpc>
                <a:spcPct val="90000"/>
              </a:lnSpc>
              <a:spcBef>
                <a:spcPts val="49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Read several times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61720" indent="-261720">
              <a:lnSpc>
                <a:spcPct val="90000"/>
              </a:lnSpc>
              <a:spcBef>
                <a:spcPts val="49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Ideally all students will have copies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61720" indent="-261720">
              <a:lnSpc>
                <a:spcPct val="90000"/>
              </a:lnSpc>
              <a:spcBef>
                <a:spcPts val="49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Students should mark places in the text that they like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61720" indent="-261720">
              <a:lnSpc>
                <a:spcPct val="90000"/>
              </a:lnSpc>
              <a:spcBef>
                <a:spcPts val="49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Together try to break down the text to figure out the strategy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61720" indent="-261720">
              <a:lnSpc>
                <a:spcPct val="90000"/>
              </a:lnSpc>
              <a:spcBef>
                <a:spcPts val="49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Take the identified section and give it a name.  If it has a name (figurative language) use it.  If not, students could make up a name for the strategy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61720" indent="-261720">
              <a:lnSpc>
                <a:spcPct val="90000"/>
              </a:lnSpc>
              <a:spcBef>
                <a:spcPts val="49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Might take a whole period.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61720" indent="-261720">
              <a:lnSpc>
                <a:spcPct val="90000"/>
              </a:lnSpc>
              <a:spcBef>
                <a:spcPts val="49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Needs to be a whole class experience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0800" y="1090440"/>
            <a:ext cx="5224320" cy="16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ommon Mentor Text Strategie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096920" y="2825280"/>
            <a:ext cx="4648320" cy="480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Writing strong beginnings.  Start with dialogue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howing vs. telling (showing by using action)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ension and suspense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ntence construction (long sentences to create a sense of being tired, short sentences to create a sense of longing to go outside)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tructure (beginning, middle, end)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0800" y="1090440"/>
            <a:ext cx="5224320" cy="16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When To Use Mentor Text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1096920" y="2825280"/>
            <a:ext cx="4648320" cy="480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Whole Clas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mall Group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onference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Lesson Planning – to find teaching poin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20800" y="1090440"/>
            <a:ext cx="5224320" cy="16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nstantia"/>
              </a:rPr>
              <a:t>Fireflies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y Julie Brincklo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1096920" y="2825280"/>
            <a:ext cx="4648320" cy="480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49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story vs. summary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49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described setting through the characters eyes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49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lets the reader into the characters thoughts and then breaks the scene by having another character speak outloud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0800" y="1090440"/>
            <a:ext cx="5224320" cy="16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4900" spc="-1" strike="noStrike">
                <a:solidFill>
                  <a:srgbClr val="000000"/>
                </a:solidFill>
                <a:latin typeface="Constantia"/>
              </a:rPr>
              <a:t>Eleven”</a:t>
            </a:r>
            <a:br>
              <a:rPr sz="4900"/>
            </a:b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by Sandra Cisnero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096920" y="2825280"/>
            <a:ext cx="4648320" cy="480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425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700" spc="-1" strike="noStrike">
                <a:solidFill>
                  <a:srgbClr val="aa2b1e"/>
                </a:solidFill>
                <a:latin typeface="Franklin Gothic Book"/>
              </a:rPr>
              <a:t>Structure</a:t>
            </a:r>
            <a:endParaRPr b="0" lang="en-US" sz="1700" spc="-1" strike="noStrike">
              <a:solidFill>
                <a:srgbClr val="000000"/>
              </a:solidFill>
              <a:latin typeface="Franklin Gothic Book"/>
            </a:endParaRPr>
          </a:p>
          <a:p>
            <a:pPr marL="256320" indent="-256320">
              <a:lnSpc>
                <a:spcPct val="80000"/>
              </a:lnSpc>
              <a:spcBef>
                <a:spcPts val="34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expository structure – straight reflection (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Franklin Gothic Book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 paragraph)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256320" indent="-256320">
              <a:lnSpc>
                <a:spcPct val="80000"/>
              </a:lnSpc>
              <a:spcBef>
                <a:spcPts val="34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narrative structure – small moment (paragraph 2 and 3)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256320" indent="-256320">
              <a:lnSpc>
                <a:spcPct val="80000"/>
              </a:lnSpc>
              <a:spcBef>
                <a:spcPts val="34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expository structure – reflection (last paragraph)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256320" indent="-256320">
              <a:lnSpc>
                <a:spcPct val="80000"/>
              </a:lnSpc>
              <a:spcBef>
                <a:spcPts val="34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256320" indent="-256320">
              <a:lnSpc>
                <a:spcPct val="80000"/>
              </a:lnSpc>
              <a:spcBef>
                <a:spcPts val="425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700" spc="-1" strike="noStrike">
                <a:solidFill>
                  <a:srgbClr val="aa2b1e"/>
                </a:solidFill>
                <a:latin typeface="Franklin Gothic Book"/>
              </a:rPr>
              <a:t>Meaning (bring the eye of the story to the surface)</a:t>
            </a:r>
            <a:endParaRPr b="0" lang="en-US" sz="1700" spc="-1" strike="noStrike">
              <a:solidFill>
                <a:srgbClr val="000000"/>
              </a:solidFill>
              <a:latin typeface="Franklin Gothic Book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Franklin Gothic Book"/>
              </a:rPr>
              <a:t>Who is the eye? – What kind of person is the eye?</a:t>
            </a:r>
            <a:endParaRPr b="0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Franklin Gothic Book"/>
              </a:rPr>
              <a:t>What did the author use to bring that out?</a:t>
            </a:r>
            <a:endParaRPr b="0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Franklin Gothic Book"/>
              </a:rPr>
              <a:t>After reading, the life lesson the character learned is…</a:t>
            </a:r>
            <a:endParaRPr b="0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i="1" lang="en-US" sz="1500" spc="-1" strike="noStrike">
                <a:solidFill>
                  <a:srgbClr val="000000"/>
                </a:solidFill>
                <a:latin typeface="Franklin Gothic Book"/>
              </a:rPr>
              <a:t>A child that is really struggling with growing up and the expectations that are placed on you.  Angry on one hand, maybe a little unsure</a:t>
            </a:r>
            <a:endParaRPr b="0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en-US" sz="1600" spc="-1" strike="noStrike">
                <a:solidFill>
                  <a:srgbClr val="aa2b1e"/>
                </a:solidFill>
                <a:latin typeface="Franklin Gothic Book"/>
              </a:rPr>
              <a:t>Word Choice </a:t>
            </a:r>
            <a:r>
              <a:rPr b="0" lang="en-US" sz="1500" spc="-1" strike="noStrike">
                <a:solidFill>
                  <a:srgbClr val="000000"/>
                </a:solidFill>
                <a:latin typeface="Franklin Gothic Book"/>
              </a:rPr>
              <a:t>– </a:t>
            </a:r>
            <a:r>
              <a:rPr b="0" i="1" lang="en-US" sz="1500" spc="-1" strike="noStrike">
                <a:solidFill>
                  <a:srgbClr val="000000"/>
                </a:solidFill>
                <a:latin typeface="Franklin Gothic Book"/>
              </a:rPr>
              <a:t>unsure, stupid, what they don’t understand</a:t>
            </a:r>
            <a:endParaRPr b="0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a2b1e"/>
                </a:solidFill>
                <a:latin typeface="Franklin Gothic Book"/>
              </a:rPr>
              <a:t>Repetition</a:t>
            </a:r>
            <a:r>
              <a:rPr b="0" lang="en-US" sz="1500" spc="-1" strike="noStrike">
                <a:solidFill>
                  <a:srgbClr val="aa2b1e"/>
                </a:solidFill>
                <a:latin typeface="Franklin Gothic Book"/>
              </a:rPr>
              <a:t> </a:t>
            </a:r>
            <a:r>
              <a:rPr b="0" i="1" lang="en-US" sz="1500" spc="-1" strike="noStrike">
                <a:solidFill>
                  <a:srgbClr val="000000"/>
                </a:solidFill>
                <a:latin typeface="Franklin Gothic Book"/>
              </a:rPr>
              <a:t>– not mine, not mine, not mine.</a:t>
            </a:r>
            <a:endParaRPr b="0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a2b1e"/>
                </a:solidFill>
                <a:latin typeface="Franklin Gothic Book"/>
              </a:rPr>
              <a:t> </a:t>
            </a:r>
            <a:r>
              <a:rPr b="0" lang="en-US" sz="1600" spc="-1" strike="noStrike">
                <a:solidFill>
                  <a:srgbClr val="aa2b1e"/>
                </a:solidFill>
                <a:latin typeface="Franklin Gothic Book"/>
              </a:rPr>
              <a:t>Powerful phrases repeated throughout the story </a:t>
            </a:r>
            <a:r>
              <a:rPr b="0" lang="en-US" sz="1500" spc="-1" strike="noStrike">
                <a:solidFill>
                  <a:srgbClr val="000000"/>
                </a:solidFill>
                <a:latin typeface="Franklin Gothic Book"/>
              </a:rPr>
              <a:t>– </a:t>
            </a:r>
            <a:r>
              <a:rPr b="0" i="1" lang="en-US" sz="1500" spc="-1" strike="noStrike">
                <a:solidFill>
                  <a:srgbClr val="000000"/>
                </a:solidFill>
                <a:latin typeface="Franklin Gothic Book"/>
              </a:rPr>
              <a:t>you’re eleven, you’re ten, and nine, and eight, and seven, and six, and five, and four, and three, and two, and one.</a:t>
            </a:r>
            <a:endParaRPr b="0" lang="en-US" sz="15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9T23:55:26Z</dcterms:created>
  <dc:creator>Abram, Beverly</dc:creator>
  <dc:description/>
  <dc:language>en-US</dc:language>
  <cp:lastModifiedBy>Abram, Beverly</cp:lastModifiedBy>
  <cp:lastPrinted>2011-07-20T02:06:25Z</cp:lastPrinted>
  <dcterms:modified xsi:type="dcterms:W3CDTF">2011-07-20T02:06:39Z</dcterms:modified>
  <cp:revision>5</cp:revision>
  <dc:subject/>
  <dc:title>Mentor Texts</dc:title>
</cp:coreProperties>
</file>